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30C0C-B6A0-468F-AD9C-31009FD61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CA56C-251C-4A34-B647-6AC4C6A4C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7B712-9C63-45BE-B5AF-A8E18E0A3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E18E8-A0BD-455C-B476-C32DA1831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73FF0-53DC-4247-9B70-B26C65FEB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96F00-95B1-487C-AFC9-6AA5DAE03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E4358-8FE4-49AF-9318-5BC9F4C92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9C59A-EA7A-479F-8874-345C53152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08ADA-4FC0-4BA2-B155-42DC1A457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FB021-C6D0-4B25-8C07-2FFA6F9E1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6F7F5-0D42-4AF2-8717-AAE44698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1B9FB-E03F-4736-A821-41FA6BE38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D9DD1-3DAA-461E-9799-C962BCA8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7B0D3-71A9-4A88-8B68-424BC17E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D9685-8DD7-4DD8-AFB4-885841F38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2A337-F6C3-4ABA-B35D-D6162C7F3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CD0AA-3ABE-407D-9898-2C73F2DE9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29710-53DE-44C9-ADF1-B619D693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8C419-823A-4D52-80A2-800E7348A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68CCF-5217-4078-BE2D-5BD2A6B04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7C25D-2937-4CBD-8B57-DC1F12E21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BA015-CDC1-409C-8074-A367F0FC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E8788-9016-4618-9D85-42C0F474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01F9B-655C-47A3-BBEE-C3166B65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E59DE-2E1B-4110-8D99-29CFC5B6E67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EE7D7-4A94-4321-B0C4-11514BE81AF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Современный урок в соответствии с новым ФГОС третьего поколения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На первый план выходит реализация </a:t>
            </a:r>
            <a:r>
              <a:rPr b="0" lang="ru-RU" sz="3200" spc="-1" strike="noStrike">
                <a:solidFill>
                  <a:srgbClr val="e5e5ff"/>
                </a:solidFill>
                <a:latin typeface="Garamond"/>
              </a:rPr>
              <a:t>принципа деятельности</a:t>
            </a: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, причём самостоятельной деятельности учащихся.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Рефлексия – это самоанализ, осмысление, оценка предпосылок, условий и течения собственной деятельности.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6кл. Органы растения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Сидит-зеленеет,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Летит-пожелтеет,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Упадёт-почернеет.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6кл. Семейства растений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На грядке за амбаром разросся стебель шаром.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Цветок – напрасный,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Плод – опасный,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А поле всё засеяно.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 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3200"/>
            </a:br>
            <a:br>
              <a:rPr sz="32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1.____________________растений начинается с поступления раствора минеральных солей в клетки _______________ волосков.</a:t>
            </a:r>
            <a:br>
              <a:rPr sz="28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2.Азотные соли необходимы для _______________, фосфорные и калийные усиливают _______________ и __________________.</a:t>
            </a:r>
            <a:br>
              <a:rPr sz="28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3.Развитие придаточных корней можно усилить таким агротехническим приёмом, как ____________________.</a:t>
            </a:r>
            <a:br>
              <a:rPr sz="28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4.Важной функцией корня является его участие в _________________ размножении. </a:t>
            </a:r>
            <a:br>
              <a:rPr sz="28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 </a:t>
            </a:r>
            <a:br>
              <a:rPr sz="28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 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1"/>
          <p:cNvSpPr/>
          <p:nvPr/>
        </p:nvSpPr>
        <p:spPr>
          <a:xfrm>
            <a:off x="826920" y="907920"/>
            <a:ext cx="74901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дсчитайте, сколько дней бактерии могут сохранять свою жизнь в виде спор, если известно, что споры холеры выдерживают неблагоприятные условия 2 дня; чумы в 4раза, тифа в 30 раз, туберкулёза в 150 , сибирской язвы в 1826 раз дольше, чем холер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Концепция современного урок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сновные положе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истема ценностей и миссия педагог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ребования к современному урок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ритерии эффективности уро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дходы к организации современного уро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онструктор уро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истема оценки достижения планируемых результатов уро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8785080" cy="64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«О» ТИП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(вводное занятие)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мотивация – образное представление об изучаемой теме – осмысление практической и социальной значимости – рефлексия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1ТИП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(изучение и первичное    закрепление новых   знаний      и способов   деятельности)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мотивация – актуализация субъектного опыта учащихся – организация восприятия – организация осмысления – первичная проверка понимания – организация первичного закрепления – анализ – рефлексия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2 ТИП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(закрепление    знаний и способов деятельности)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мотивация – актуализация ведущих знаний и способов действий – конструирование образца применения знаний в стандартной и изменённой ситуациях – самостоятельное применение знаний – контроль и самоконтроль – коррекция – рефлексия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3 ТИП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(комплексное    применение   знаний   и способов   деятельности)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 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мотивация – актуализация комплекса знаний и способов деятельности – самостоятельное применение знаний в сходной и новой ситуациях – самоконтроль и контроль – коррекция – рефлексия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4 ТИП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(обобщение и систематизация знаний и способов  деятельности)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мотивация – анализ содержания учебного материала – выделение главного  -обобщение и систематизация – установление внутрипредметных и межпредметных  связей – рефлексия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5 ТИП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(проверка и оценка знаний  и способов деятельности  уч-ся)</a:t>
            </a: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мотивация – самостоятельное выполнение заданий – самоконтроль – контроль – анализ,  оценка – коррекция – рефлексия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5</a:t>
            </a:r>
            <a:r>
              <a:rPr b="1" lang="ru-RU" sz="3200" spc="-1" strike="noStrike" baseline="30000">
                <a:solidFill>
                  <a:srgbClr val="e5e5ff"/>
                </a:solidFill>
                <a:latin typeface="Garamond"/>
              </a:rPr>
              <a:t>1 </a:t>
            </a: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ТИП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(коррекция знаний и способов   деятельности учащихся)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 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1.Организационный</a:t>
            </a: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этап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2.</a:t>
            </a: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Этап проверки домашнего задания</a:t>
            </a:r>
            <a:br>
              <a:rPr sz="28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3.Этап актуализации субъектного опыта</a:t>
            </a:r>
            <a:br>
              <a:rPr sz="28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4.Этап изучения новых знаний и способов деятельности</a:t>
            </a:r>
            <a:br>
              <a:rPr sz="28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5.Этап первичной проверки понимания изученного</a:t>
            </a:r>
            <a:br>
              <a:rPr sz="28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6.Этап закрепления изученного</a:t>
            </a:r>
            <a:br>
              <a:rPr sz="28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7.Этап применения изученного</a:t>
            </a:r>
            <a:br>
              <a:rPr sz="28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8.Этап обобщения и систематизации</a:t>
            </a:r>
            <a:br>
              <a:rPr sz="28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9.Этап контроля и самоконтроля</a:t>
            </a:r>
            <a:br>
              <a:rPr sz="28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10.Этап коррекции</a:t>
            </a:r>
            <a:br>
              <a:rPr sz="28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11.Этап информации о домашнем задании</a:t>
            </a:r>
            <a:br>
              <a:rPr sz="28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12.Этап подведения итогов учебного занятия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13.</a:t>
            </a: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Рефлексия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 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Охотнице – сове средь ночи тёмной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Не жаль певца любви и неги томной,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А соловей съедает светляка,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Не посмотрев на прелесть огонька;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Светляк же – ночи светоч оживлённый, 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Вползая вверх, цветок съедает сонный.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 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16:28:52Z</dcterms:created>
  <dc:creator>Макс</dc:creator>
  <dc:description/>
  <dc:language>en-US</dc:language>
  <cp:lastModifiedBy>max</cp:lastModifiedBy>
  <dcterms:modified xsi:type="dcterms:W3CDTF">2024-12-17T14:50:36Z</dcterms:modified>
  <cp:revision>21</cp:revision>
  <dc:subject/>
  <dc:title>           1. Растения являются основными производителями (продуцентами) органического вещества.  2. Растения характеризуются ограниченным ростом.  3. Все растения по способу питания являются автотрофными организмами.</dc:title>
</cp:coreProperties>
</file>